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0CED-693C-4138-8411-12D04EBE5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645E-46E2-4B4E-910A-F59B5CDE8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1000"/>
            </a:b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3EBE-1556-4E9B-A53E-1D1A55E3E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4C25-FA9A-4F02-B234-B692F79F4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E7AD-25AB-4407-93F4-856AB96A6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8764-FE22-4497-A677-55C7ED4A5E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2014-447B-4459-93E5-7AB378B83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94C0-A37D-4D30-8168-5F03BF5076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CBCF-419B-4719-A779-E35FF3AC0E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7C3A-5571-481B-A5C1-EBCA33CAC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9E3D-7FE1-42B6-A7AF-BB0EFB727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9766-9A92-4FC4-B1F2-623DE7DC79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ABE5-96AB-4121-8AC0-C1FA0F86A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B777-38D1-49BE-B0D1-399C36400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68F6-ED91-432D-B5A9-BB809A548D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4865-5C4B-4CA5-A566-91C6B573F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8E54-5C17-45C7-932A-8187603A3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1BD7-EE8A-42DD-B2A0-9FA13CFA4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08CC-F0E6-42CA-99ED-0B111E733D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2E66-7EB9-4DA5-AB95-4BD08CD82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2420-3F96-4107-8B70-68381F9326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B5AE-D150-469A-BC1F-599697A74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D435-982B-4DFF-94BB-2884C5108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349D-D522-4BC5-9C94-1B25141DD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FE54-5E7E-4B1F-B230-A27AE4DB82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CE81-FBD6-447E-8E71-CD3F456F6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7D1B-A9B5-4927-ABE6-A2F4B3AD56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72AB-D7FF-4C9A-9868-C5841759A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0F69-0C3A-4E31-A295-172CA0B93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EBF1-1736-4BFA-B561-6F4EEDA28D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7457-7BAA-4FF4-9839-A7D6440A6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F885-B634-4E5D-ACF3-3AFA0068D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B9DD-74C2-4F2A-86BE-80D1DE840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C828-6753-495C-A77D-653811965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9186-7DE3-4FC6-AF48-EACDC6689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5E0A-42EC-45CA-9FA6-0DA73CAAC6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94D-63A9-40A9-A17A-6F0384E7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3F7-D02A-4040-A448-5F61A22D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919-150D-435A-9ABD-47C12E61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5B5-8EE1-475A-A040-200783C9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6FB-FE0A-488D-A258-61A2BD8A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85C-0677-4750-BE97-0472827C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1C0-CE37-4D6A-B43D-82DFE0BA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0BC-03EB-4E21-AFD4-C75DF01F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999-BAC1-4827-990B-40730887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75A-4DED-4957-9BC5-A263B186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60C-CB49-471D-AC21-F2C8F1C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02E-91C6-4F72-AEF0-4C95A332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A459-97DD-4F7B-8432-A0AE7F6CEB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1440" y="2130120"/>
            <a:ext cx="8277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880" y="388584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2863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178452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04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58920" y="1619280"/>
            <a:ext cx="4857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по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пособен достичь исти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же если он отправляется от да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38200" y="2878200"/>
            <a:ext cx="485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познания леж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благодаря которым мы отлич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ую действи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её субъективного от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517840" y="413856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ь веры удостовер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орным субъектом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рк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598920" y="539748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и субъектом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е отдельный человек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а доступн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окуп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язанных люб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Хомяков Алексей Степанович (sm9)"/>
          <p:cNvPicPr/>
          <p:nvPr/>
        </p:nvPicPr>
        <p:blipFill>
          <a:blip r:embed="rId1"/>
          <a:stretch/>
        </p:blipFill>
        <p:spPr>
          <a:xfrm>
            <a:off x="250920" y="4246560"/>
            <a:ext cx="1942920" cy="2428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0"/>
          <p:cNvSpPr/>
          <p:nvPr/>
        </p:nvSpPr>
        <p:spPr>
          <a:xfrm>
            <a:off x="7448400" y="4138560"/>
            <a:ext cx="161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6369120" y="2878200"/>
            <a:ext cx="269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я и вера как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5289480" y="1619280"/>
            <a:ext cx="377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сторон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д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480" y="27432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5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7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16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4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0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Лосский (1-3)"/>
          <p:cNvPicPr/>
          <p:nvPr/>
        </p:nvPicPr>
        <p:blipFill>
          <a:blip r:embed="rId1"/>
          <a:stretch/>
        </p:blipFill>
        <p:spPr>
          <a:xfrm>
            <a:off x="39528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4" name="Text Box 5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Франк СЛ (3bw)"/>
          <p:cNvPicPr/>
          <p:nvPr/>
        </p:nvPicPr>
        <p:blipFill>
          <a:blip r:embed="rId2"/>
          <a:stretch/>
        </p:blipFill>
        <p:spPr>
          <a:xfrm>
            <a:off x="7377120" y="179856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7" name="Text Box 8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1" descr="Шпет (1)"/>
          <p:cNvPicPr/>
          <p:nvPr/>
        </p:nvPicPr>
        <p:blipFill>
          <a:blip r:embed="rId3"/>
          <a:stretch/>
        </p:blipFill>
        <p:spPr>
          <a:xfrm>
            <a:off x="358920" y="4317840"/>
            <a:ext cx="158256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0" name="Text Box 12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 Шпе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9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оренён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от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 Флорен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и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вол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2" descr="Флоренский (1-1cut_cmp)"/>
          <p:cNvPicPr/>
          <p:nvPr/>
        </p:nvPicPr>
        <p:blipFill>
          <a:blip r:embed="rId4"/>
          <a:stretch/>
        </p:blipFill>
        <p:spPr>
          <a:xfrm>
            <a:off x="7269120" y="4317840"/>
            <a:ext cx="158760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4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6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3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3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очки зрения отрицательн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 и объект разделены пропа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же понимается либо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ение вещи в себе, либо как акт су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тика исти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вается рамка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ии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ама же истина понимается не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манентное, 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нсцендентное согласование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с вещью, или вещи – с позн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 при этом имеет своим источни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ядок и связи в предмете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сть 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в конеч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тоге – субъекта, утверждающего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нима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 от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действитель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звёртывание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а познания не приближает, а, напрот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яет понятия от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отрица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5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ожительная философия исходи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сти обоснования всякой предмет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ведения всего сущего под некотор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е, превышающее обосновыва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основание переходит в конечном итоге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ьную полноту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о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рен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тотальности совокупной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тупающей единым основанием всего с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ение проблемы действительности и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решения суть также части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язи с чем положительн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е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ирующей в себя на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ходя этот путь до конца,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может остановиться только 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уиция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непосредственно очевидных нача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ующих всякому теоретическому зн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положи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Хомяков Алексей Степанович (sm10)"/>
          <p:cNvPicPr/>
          <p:nvPr/>
        </p:nvPicPr>
        <p:blipFill>
          <a:blip r:embed="rId1"/>
          <a:stretch/>
        </p:blipFill>
        <p:spPr>
          <a:xfrm>
            <a:off x="358920" y="1798560"/>
            <a:ext cx="15224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5" descr="Трубецкой С (1)"/>
          <p:cNvPicPr/>
          <p:nvPr/>
        </p:nvPicPr>
        <p:blipFill>
          <a:blip r:embed="rId2"/>
          <a:stretch/>
        </p:blipFill>
        <p:spPr>
          <a:xfrm>
            <a:off x="7197840" y="431784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Text Box 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С. Хомяков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4-18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ост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И"/>
          <p:cNvPicPr/>
          <p:nvPr/>
        </p:nvPicPr>
        <p:blipFill>
          <a:blip r:embed="rId3"/>
          <a:stretch/>
        </p:blipFill>
        <p:spPr>
          <a:xfrm>
            <a:off x="7232760" y="1798560"/>
            <a:ext cx="15872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 Соловьё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3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Лопатин (3)"/>
          <p:cNvPicPr/>
          <p:nvPr/>
        </p:nvPicPr>
        <p:blipFill>
          <a:blip r:embed="rId4"/>
          <a:stretch/>
        </p:blipFill>
        <p:spPr>
          <a:xfrm>
            <a:off x="358920" y="4317840"/>
            <a:ext cx="154764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8" name="Text Box 15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ци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 истины – это проблема вс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олько области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полагает отрицательная философ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ложительной философии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ядоположное рассмотр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иллюзор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 как нет нич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ме реальной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люзия возможна только внутри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орно не содерж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ерные соотнош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ими областями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та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хвате материала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релирует с исти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1"/>
          <p:cNvSpPr/>
          <p:nvPr/>
        </p:nvSpPr>
        <p:spPr>
          <a:xfrm>
            <a:off x="142920" y="5468760"/>
            <a:ext cx="2050920" cy="122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истин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своём мест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ло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месте чуж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3"/>
          <p:cNvSpPr/>
          <p:nvPr/>
        </p:nvSpPr>
        <p:spPr>
          <a:xfrm>
            <a:off x="465120" y="61531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1"/>
          <p:cNvSpPr/>
          <p:nvPr/>
        </p:nvSpPr>
        <p:spPr>
          <a:xfrm>
            <a:off x="248040" y="615312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Мнимый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0800000">
            <a:off x="465120" y="1545480"/>
            <a:ext cx="827712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следует поним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 оно должно быть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откр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правляющих» 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2"/>
          <p:cNvSpPr/>
          <p:nvPr/>
        </p:nvSpPr>
        <p:spPr>
          <a:xfrm>
            <a:off x="358200" y="615312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етаге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0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мы можем знать об этом ми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о собственным своим ощуще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тому, что нами испытывается, так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держание нашего оп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ашего знания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ственные состоя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ичего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якое утверждение внешнего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его этим состоя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с логической точки з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более или ме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оятным заключением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151080" y="4965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07180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99216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647640" y="16192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мпирическ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состоянии доказ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ми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опы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727280" y="2878200"/>
            <a:ext cx="449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и в особенност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других со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13856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овательный эмпириз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неизбе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дёт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3886200" y="53974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лепость выв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ставляет отвергнуть и посылк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зис о происхождении всех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й из 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24000" y="5397480"/>
            <a:ext cx="2600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М. Лопат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оложитель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Лопатин (3)"/>
          <p:cNvPicPr/>
          <p:nvPr/>
        </p:nvPicPr>
        <p:blipFill>
          <a:blip r:embed="rId1"/>
          <a:stretch/>
        </p:blipFill>
        <p:spPr>
          <a:xfrm>
            <a:off x="6800760" y="1619280"/>
            <a:ext cx="2051280" cy="2158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закон причинности и наводит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внешнего бытия как пр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х ощущений и представлений, но так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ый этот зак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ности есть фор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ж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ение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име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условное значение 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дать безусловного непоколебим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беждения в существовании внешн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все доказатель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, сводимые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, являются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как соображения вероят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как свидетельства достоверност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Лопатин (3)"/>
          <p:cNvPicPr/>
          <p:nvPr/>
        </p:nvPicPr>
        <p:blipFill>
          <a:blip r:embed="rId1"/>
          <a:stretch/>
        </p:blipFill>
        <p:spPr>
          <a:xfrm>
            <a:off x="7377120" y="1258920"/>
            <a:ext cx="1525680" cy="1606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"/>
          <p:cNvSpPr/>
          <p:nvPr/>
        </p:nvSpPr>
        <p:spPr>
          <a:xfrm>
            <a:off x="1870200" y="3778200"/>
            <a:ext cx="259056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ме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вещ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4678200" y="3778200"/>
            <a:ext cx="2590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971640" y="259092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7088040" y="259092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050920" y="2193840"/>
            <a:ext cx="503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ренной недостаток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проявляющийся яснее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Спинозы и Гегеля) заклю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301440" y="5397480"/>
            <a:ext cx="27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илософские нач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вест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мет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е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знак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го собственном или безуслов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а  уверенность ни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бусловлена ощущениями, получаем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и от предмета, и понятием нашим о 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е значение наши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й и понятий прямо обусло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ностью в самостоятель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и предмет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…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чевидно предмет  некоторого особ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тьего рода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ьнее может быть назва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Соловьев (2-3 - sel)"/>
          <p:cNvPicPr/>
          <p:nvPr/>
        </p:nvPicPr>
        <p:blipFill>
          <a:blip r:embed="rId1"/>
          <a:stretch/>
        </p:blipFill>
        <p:spPr>
          <a:xfrm>
            <a:off x="7556400" y="539640"/>
            <a:ext cx="1181160" cy="2000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5892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ществов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тверждае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р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2385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одерж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ом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61167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вяз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дельных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едени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цельную систему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ш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2400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есть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и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3201840" y="4857840"/>
            <a:ext cx="2772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т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– это м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пытыв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н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608184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к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а устроен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чем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им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39:57Z</dcterms:created>
  <dc:creator>Николай Бирюков / Nikolai Biryukov</dc:creator>
  <dc:description>Версия мая 2006 г.
Добавления концепция алогичного становления А. Ф. Лосева</dc:description>
  <dc:language>en-US</dc:language>
  <cp:lastModifiedBy>LEGION</cp:lastModifiedBy>
  <dcterms:modified xsi:type="dcterms:W3CDTF">2014-11-11T12:45:30Z</dcterms:modified>
  <cp:revision>95</cp:revision>
  <dc:subject>История и философия науки - Тема 2</dc:subject>
  <dc:title>Русская гносеология и философия науки</dc:title>
</cp:coreProperties>
</file>